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E58-4F9A-4FE2-9DA8-49F9A6A4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DB5-AF00-48C5-95CB-65F47B7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6DF-A552-4BB8-BEC8-8AED3F79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ADD-D7AC-4897-9A9D-0A19DDE5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17F-D4BE-42DA-BF7E-408F7A4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1D6-1117-4669-AFD6-4CD41FA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2C8-F11D-427F-9704-7EEB55A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F0B-7D86-4CD5-8398-9404ADF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BAD-C98E-49AB-9E57-DD9FB50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17C-15D6-4462-9862-782CDB8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9D4-1550-4940-AF0A-75B5326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78C-C069-42F4-B59F-E4615E2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E9494-53A7-4EEE-8259-CA09E8E288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44ABE-64D4-4E45-8729-003C8E82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pitals"/>
              </a:rPr>
              <a:t>Washington Naval Confer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pitals"/>
              </a:rPr>
              <a:t>(1921-192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 (Body)"/>
                <a:ea typeface="Calibri (Body)"/>
              </a:rPr>
              <a:t>By Melanie Ki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032920" y="457200"/>
            <a:ext cx="49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pitals"/>
              </a:rPr>
              <a:t>Backgrou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066680" y="1519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 of disarmament effort due to the naval construction rivalry between US, Great Britain and Japa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66680" y="2814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jor naval powers such as Great Britain, US, France, Italy and Japan were in attend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066680" y="40384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reements such as the Four Power Pact, Nine Power Treaty, Five-Power Naval Limitation Treaty and Six Power Pact were conclu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pitals"/>
                <a:ea typeface="Capitals"/>
              </a:rPr>
              <a:t>Weakness 1</a:t>
            </a:r>
            <a:br>
              <a:rPr sz="3200"/>
            </a:br>
            <a:r>
              <a:rPr b="0" lang="en-US" sz="500" spc="-1" strike="noStrike">
                <a:solidFill>
                  <a:srgbClr val="000000"/>
                </a:solidFill>
                <a:latin typeface="Capitals"/>
                <a:ea typeface="Capitals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pitals"/>
                <a:ea typeface="Capitals"/>
              </a:rPr>
              <a:t>Lack of Anticipation in Other Tech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762120" y="1969920"/>
            <a:ext cx="7543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though the Five-Power Treaty controlled tonnage of each navy’s warships, some classes of ships were left unrestric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 result, a new race to build cruiser ships emerged after 192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62120" y="335268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y may have propelled naval air arms because aircraft carriers were also not covered. This led Japan to build a major fleet air arm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3200400" cy="186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5021280" y="4294080"/>
            <a:ext cx="3284640" cy="2298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767880" y="1460520"/>
            <a:ext cx="370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o much focus on battles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914400" y="2971800"/>
            <a:ext cx="49165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as no enforcement mechanism of the Naval Limitations Trea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1930, Japan withdrew from the treaty and built battleships beyond treaty lim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pitals"/>
                <a:ea typeface="Capitals"/>
              </a:rPr>
              <a:t>Weakness 2</a:t>
            </a:r>
            <a:br>
              <a:rPr sz="3200"/>
            </a:br>
            <a:r>
              <a:rPr b="0" lang="en-US" sz="500" spc="-1" strike="noStrike">
                <a:solidFill>
                  <a:srgbClr val="000000"/>
                </a:solidFill>
                <a:latin typeface="Capitals"/>
                <a:ea typeface="Capitals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pitals"/>
                <a:ea typeface="Capitals"/>
              </a:rPr>
              <a:t>Lack of Enforcement and Verification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14400" y="1897200"/>
            <a:ext cx="49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otentially dangerous compromise with national secu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5830920" y="1627200"/>
            <a:ext cx="2628720" cy="3249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914400" y="4876920"/>
            <a:ext cx="754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1921-22 when the talks took place, America was the dominant world naval power. But during the 1920s and early Japanese Imperial Navy emerged as the dominant force in the Pacif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666880" y="330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pitals"/>
                <a:ea typeface="Capitals"/>
              </a:rPr>
              <a:t>Spirit and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066680" y="1295280"/>
            <a:ext cx="72392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Spirit</a:t>
            </a:r>
            <a:r>
              <a:rPr b="0" lang="en-US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lessen the tension of the naval race between major cou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060560" y="2895480"/>
            <a:ext cx="777852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Let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ifted the battleship race to cruise ship race and aircraft r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failed to reduce much tension between major countries because spending for naval arms still continued on smaller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contributed to the shift in dominant naval power from America to Japan, thus increasing world insecu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866400" y="533520"/>
            <a:ext cx="18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pitals"/>
                <a:ea typeface="Capitals"/>
              </a:rPr>
              <a:t>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14400" y="41911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ttp://img.timeinc.net/time/asia/magazine/2007/0305/a_jap_military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14400" y="272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ttp://www.navy.gov.au/gallery/images/20070506ran8090 115_247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14400" y="1523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cache.daylife.com/imageserve/0e8a63C83y4sw/610x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4:07:32Z</dcterms:created>
  <dc:creator>Jiyoung Melanie Kim</dc:creator>
  <dc:description/>
  <dc:language>en-US</dc:language>
  <cp:lastModifiedBy>Jiyoung Melanie Kim</cp:lastModifiedBy>
  <dcterms:modified xsi:type="dcterms:W3CDTF">2008-10-19T15:16:25Z</dcterms:modified>
  <cp:revision>19</cp:revision>
  <dc:subject/>
  <dc:title>Slide 1</dc:title>
</cp:coreProperties>
</file>